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80E501E-3522-4880-9566-8B6D1EECF19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arting point- teaching more complex now than ever- expectations, research etc. Therefore more important to continaully upskill and share good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 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burton.david.dj@edumail.vic.gov.au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The Role of the Teaching and Learning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Arial"/>
              </a:rPr>
              <a:t>David Burton,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Email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urton.david.dj@edumail.vic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Mobile- </a:t>
            </a: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0458 3602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ing things through the eyes of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143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648036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.committed to ensuring that every young person achieves success through the provision of a high quality education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Innovation &amp; Excellence 2008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identified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41504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Some Focus Areas for Coaching: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103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Effective pedag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e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VEL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udent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Behaviou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am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Questio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1052640"/>
            <a:ext cx="403236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Lesson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lement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Learning strategies/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o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ssessment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assro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eac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acher/student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484280"/>
            <a:ext cx="8209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Someone telling you what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omeone telling you how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Expert vs N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A quick “f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Judg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Big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Solving problem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Me having ALL the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valued person from where he or she is to where he or she wants to b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confidential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 Judge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oting the exchange of good ideas and resources and Sharing 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01662175</cp:lastModifiedBy>
  <dcterms:modified xsi:type="dcterms:W3CDTF">2008-03-14T02:57:31Z</dcterms:modified>
  <cp:revision>35</cp:revision>
  <dc:subject/>
  <dc:title>Slide 1</dc:title>
</cp:coreProperties>
</file>